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1AA-3E30-45D8-87B4-54B07878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6B8-76CA-4503-842E-DBF1DE12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1B8-B989-468F-8F08-82A9EDD7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540-F9AC-4F7E-B662-5936576A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7F2-F215-4AF9-9967-FBA9E2F9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C4E-7716-4EE4-BCE9-B84958BE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EAD-4899-42DA-92D3-C9AC529C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BC3-9CD7-4C0D-8123-4F983D45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DBA-6704-4ACD-A6AC-BA865712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092-0D99-47FC-9D0B-6BF9DCE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BA2-80B2-4030-8FF4-9FEA478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B14-0154-42FF-9EB0-6DA4A19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1FE6-5E15-4995-844D-6ACDCAC8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ll.fll.purdue.edu/JapanProj/FLClipart/" TargetMode="External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image" Target="../media/image3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hyperlink" Target="http://tell.fll.purdue.edu/JapanProj/FLClipart/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hyperlink" Target="http://tell.fll.purdue.edu/JapanProj/FLClipart/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hyperlink" Target="http://tell.fll.purdue.edu/JapanProj/FLClipart/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6 NH(602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7 de dic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casa o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rooms in the apar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90840" y="3638520"/>
            <a:ext cx="560088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6924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6472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3908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54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83808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gusta más ____ gorra   azu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553080" y="914400"/>
            <a:ext cx="23623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004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______      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muy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s gusta _____ casa 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una casa boni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una casa boni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8380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no es gran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R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adjetivos posesivo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ossesive adjecti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s who owns or possess something. 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Adjetivos posesivo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panis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1905120" cy="13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5337000"/>
            <a:ext cx="1981080" cy="144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114800" y="2666880"/>
            <a:ext cx="2438280" cy="177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267080" y="4952880"/>
            <a:ext cx="1905120" cy="13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6360" y="32004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5320" y="44197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2880" y="5181480"/>
            <a:ext cx="197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i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8000" y="33526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5760" y="5364000"/>
            <a:ext cx="119124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. pl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9200" y="32004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5080" y="32004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88760" y="44496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42440" y="44496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5000" y="56386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376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0481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o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6115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a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3760" y="57452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2880" y="57452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gor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am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cami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86120" y="1477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9040" y="2057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4640" y="3611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67680" y="41911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292320" indent="-2923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only two forms– Singular and Plural. The adjectiv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refer to many differ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lib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_____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zapa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_____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514600" cy="1833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81480" y="2139840"/>
            <a:ext cx="243864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5392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6356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240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0204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2296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ues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ke any other adjective that ends in –O has 4 for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uarto             _______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uartos           _______ plum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353040" cy="2435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352680" cy="2436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78280" y="460224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7040" y="51354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98000" y="460224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22040" y="51354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say OUR in Spa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tivos Poses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l-Ella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los-Ellas-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888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0892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44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932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5880" y="3352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5360" y="33526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51000" y="3900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20960" y="3900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3120" y="43578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2960" y="43578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09280" y="489096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37720" y="48909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(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75240" y="54100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8880" y="54100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sombre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sombre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 sombrero es de color caf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2590920" cy="1888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01:03Z</dcterms:created>
  <dc:creator>Helen Zumaeta</dc:creator>
  <dc:description/>
  <dc:language>en-US</dc:language>
  <cp:lastModifiedBy>Helen Zumaeta</cp:lastModifiedBy>
  <dcterms:modified xsi:type="dcterms:W3CDTF">2012-12-17T21:05:16Z</dcterms:modified>
  <cp:revision>10</cp:revision>
  <dc:subject/>
  <dc:title>Me llamo _________ Clase 6nh/il La fecha es el 4 de abril del 2011</dc:title>
</cp:coreProperties>
</file>